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AF7-29F4-4396-B475-75DB5BED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ACC-0F24-4CA1-91BC-01EA3358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C16-BC5D-4654-A4E6-FAE52A41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5F3-8616-4A11-A7A9-E6F9B308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08B5-5C5D-46DC-9BCE-F554797D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80A3-D963-450D-A960-91F1E96F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D379-686E-4D67-9F92-2398AFE0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E410-491C-40FA-8999-E23D99FE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820D-87ED-4D05-B9BF-49BA0BDA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F497-BB2C-45FA-B247-8D966EB4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01D2-2A83-44BA-BE46-DA26B37B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386-C92E-41D5-8C00-2FE376FD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5B94-0040-46BD-BF2A-DBEF75BF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7D1B-E6E3-466E-A0B6-EE49AE5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B8E2-2EF0-445C-AFE0-4A520BD9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0792-DD72-48EA-9B9B-2D25D5CA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A351-9BDD-413E-A29C-D59F5F94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5EA-D8C9-4648-BBCC-EB8F0A7C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8EC-722D-4683-9070-9E2E0D14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ACE-2F6D-4539-8D6C-9D0DC252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900-630B-4A9C-B497-6ED76D6B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814-4184-42DD-AC13-975BE544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3E9-95F7-4941-BB34-6A3581E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A59-06E1-497E-A6AD-EA8CC629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1791-D3A0-4B4D-A783-AC0C72022E0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1D63-71B0-4D47-9595-013E7E67293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543280" cy="513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4c3aa"/>
                </a:solidFill>
                <a:latin typeface="Arial"/>
              </a:rPr>
              <a:t>INJETORA TERMOPLÁSTICA PARA PRÓTESE DENTÁRIA PARCIAL, TOTAL E SIMILAR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52480" y="1707840"/>
            <a:ext cx="82915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jetora para uso em laboratórios protéticos e similares ao qual foi dada original construção, com vistas a melhorar a sua utilização e eficiência em relação aos similares existentes no mercado.</a:t>
            </a:r>
            <a:br>
              <a:rPr sz="4000"/>
            </a:br>
            <a:br>
              <a:rPr sz="4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ste em sistema vertical formado por mecanismo de injeção que se projeta no forno original com cartucheira embutida e mobilidade para abastecimento do cartucho de matéria prima que acomoda-se em alinhamento e ajuste precisos para entrada do êmbolo no interior da cartucheira, a 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mufl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m tampa e base com o molde alojamento fica presa por travas na base da injetora. Todo o sistema fica  em alinhamento preciso e ajuste perfeito para uma injeção ideal. 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35344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forma que o processo é executado imediatamente ao se atingir a temperatura ideal sem os inconvenientes do desperdício da matéria prima eliminando as necessidades de compensações e manipulações que podem provocar acident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16000" y="1085760"/>
            <a:ext cx="66960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sultando em uma injeção completa e uniforme eliminando a formação de rachaduras e deformações, proporcionando condições para um polimento que preserva a qualidade do produto final como cor, textura  e resistência. Os parâmetros de qualidade do produto e condições de produção são elevados ao nível da excelênci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5:12:32Z</dcterms:created>
  <dc:creator>Cliente</dc:creator>
  <dc:description/>
  <dc:language>en-US</dc:language>
  <cp:lastModifiedBy>Cliente</cp:lastModifiedBy>
  <dcterms:modified xsi:type="dcterms:W3CDTF">2009-07-07T15:30:47Z</dcterms:modified>
  <cp:revision>2</cp:revision>
  <dc:subject/>
  <dc:title>Slide 1</dc:title>
</cp:coreProperties>
</file>